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335-D9D4-43FB-BDBC-5043FEB7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C52-DB37-4D91-AF21-673F7BE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443-1EF0-4FC6-8293-C06F76FE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5B7-475E-4D1B-AF48-816FB4A3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B1C-EC28-4632-975C-9AC6A5C7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A92-E3F3-40D6-8379-21CCD48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CF9-5C18-47B8-80A8-AA2B95B9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76D-1F9B-48A4-815D-8B73669F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3A1-D1BE-4261-B6D8-172451E6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8ED-D9DA-46C5-9082-EEF75A2F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771-2899-4A63-A851-F0C3510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ED6-2F77-4749-AE8C-25E9107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B997-4268-4A96-8EB6-E4349996E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 of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Nest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WRFx development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00200"/>
          <a:ext cx="8229600" cy="4079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ng 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 and in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t move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go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g fix an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rtex 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line 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line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 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izontal Diffusion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tests for 69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mping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tests for 69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physics sche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go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al and real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C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-time auto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-time web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go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4:44:23Z</dcterms:created>
  <dc:creator>xzhang</dc:creator>
  <dc:description/>
  <dc:language>en-US</dc:language>
  <cp:lastModifiedBy>xzhang</cp:lastModifiedBy>
  <dcterms:modified xsi:type="dcterms:W3CDTF">2010-02-18T13:58:39Z</dcterms:modified>
  <cp:revision>9</cp:revision>
  <dc:subject/>
  <dc:title>Status of 3rd Nest Development</dc:title>
</cp:coreProperties>
</file>